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A3E-A56E-48D2-B677-4D56ADFE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679-CC27-44DD-97DD-864D5754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A9D-B140-45EE-89BC-14E16325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E99-2614-4040-866D-9F34A229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147-D5CE-4B03-B608-B0032C02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265-8EC8-44F0-9C03-A2580238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835-3F2D-42A7-906A-1AD03125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02F-EB2B-4B30-8090-C385A229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A8B-954B-4FA0-86F8-2078ADC0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49B-3C6E-4D0B-9193-DD013801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B9A-AC09-4770-A98B-65EB12E2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D1C-556F-4EB6-BFA0-12148F1E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cc00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D82B-2132-42B6-941D-57E001AF3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ooper.html" TargetMode="External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cc00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838080"/>
            <a:ext cx="6476760" cy="319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9900ff"/>
                    </a:gs>
                    <a:gs pos="100000">
                      <a:srgbClr val="33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Jello</a:t>
            </a:r>
            <a:endParaRPr b="0" lang="en-US" sz="1800" spc="1" strike="noStrike">
              <a:ln w="255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9900ff"/>
                  </a:gs>
                  <a:gs pos="100000">
                    <a:srgbClr val="3333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39272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Harrington"/>
              </a:rPr>
              <a:t>Kather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Harrington"/>
              </a:rPr>
              <a:t>October 7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Harrington"/>
              </a:rPr>
              <a:t>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Harrington"/>
              </a:rPr>
              <a:t>Computer #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ff00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Jell-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veloped fruit-flavored versions of Cooper’s gelatin and his wife devised the name “Jell-O” for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old his business to Francis Woodward in 1897 who in the 1900 began advertising heav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06 Jell-O sales  nearly $1million doll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23, Woodward’s Genesee Pure Food company was renamed Jell-O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eventually combined with Postum Cereal to become the General Foods Corpo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3333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Peter Coo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Cooper is credited with the invention of one of the most uniquely American desserts of all time, “Jell-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 was an engineer and a philanthropist, active in politics and community affairs, known for a variety of inventions and accomplish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d no formal training but as a young man he worked with his father and mastered a variety of skills in masonry, hat- making and machin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 died in New York on April 4,1883, at the age of 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involved in the 1858 project that resulted in installing the first transatlantic cable tele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50000">
              <a:srgbClr val="3333ff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Cooper"/>
          <p:cNvPicPr/>
          <p:nvPr/>
        </p:nvPicPr>
        <p:blipFill>
          <a:blip r:embed="rId1"/>
          <a:srcRect l="0" t="0" r="2131" b="-6435"/>
          <a:stretch/>
        </p:blipFill>
        <p:spPr>
          <a:xfrm>
            <a:off x="1600200" y="0"/>
            <a:ext cx="556272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Cooper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2895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4267080"/>
            <a:ext cx="685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elsons MIT Program,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Jell-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Sept 29, 2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oop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6019920"/>
            <a:ext cx="4648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V Star Ton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4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0Z</dcterms:created>
  <dc:creator>install</dc:creator>
  <dc:description/>
  <dc:language>en-US</dc:language>
  <cp:lastModifiedBy>install</cp:lastModifiedBy>
  <dcterms:modified xsi:type="dcterms:W3CDTF">2010-10-13T17:50:51Z</dcterms:modified>
  <cp:revision>21</cp:revision>
  <dc:subject/>
  <dc:title>Slide 1</dc:title>
</cp:coreProperties>
</file>